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24B3-351C-4330-B753-263F7BBA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D03C-D896-4707-AFA9-B9066460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FA5F-8AA8-40B8-9A4F-A9345F7C5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694-FC4C-43BE-9A1C-2D88938CF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D378-34EE-49AB-A1F7-F5DAF8B5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5B53-45C7-4580-8C09-912114E1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6A804-83F6-4CCF-9F0C-7FA7D785A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DFF7-D84F-4F98-92AB-B282A2CC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65AC5-A4EE-4A1D-B81D-F72A00292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7EF9A-2DEF-4803-85BF-AD59BFB6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4DB2C-1F08-4207-BE0D-16ECE33F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0510-137F-4A06-BCFA-1C2ED774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1D1A-4117-4FEE-9C8E-36F61699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67FB1-5269-4393-85A5-3302A1037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7253-7277-4729-9935-DFCF1D6B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DCFD-D5BE-436E-8EAB-B4C546A47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403812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74040"/>
            <a:ext cx="206064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8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BDC2-5379-4EE9-A867-8FBC918C7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46A-33DA-40BE-95F9-9056DB48C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5D07-BA31-4D04-8BAA-340117F8A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28E7-D24A-4F1C-95C2-F41D7C131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635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AB58-028A-4408-85FD-AB076809E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11A3-E2A7-4B95-A59E-ABD38578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7404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7756-C252-46F9-A570-A4F68ABE2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4038120"/>
            <a:ext cx="312336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74040"/>
            <a:ext cx="64008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F95-3A79-4CC7-88D0-DB7EEDDA8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E03F-F624-404A-BB48-296A334A7951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C539-4203-4707-B4B6-40860EC3283A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5000"/>
              <a:buFont typeface="Monotype Sort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rebuchet MS"/>
              </a:rPr>
              <a:t>SPECIAL AND VULNERABLE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ohamed Nasheed became president of Maldive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He was the president of 360,000 peop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spcBef>
                <a:spcPts val="601"/>
              </a:spcBef>
              <a:buClr>
                <a:srgbClr val="ffffff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rew attenion by setting aside money out to buy new land so his country won’t have to relocat 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"/>
          <p:cNvSpPr/>
          <p:nvPr/>
        </p:nvSpPr>
        <p:spPr>
          <a:xfrm>
            <a:off x="8798040" y="5423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1T16:12:23Z</dcterms:created>
  <dc:creator>PA Department of Education</dc:creator>
  <dc:description/>
  <dc:language>en-US</dc:language>
  <cp:lastModifiedBy>PA Department of Education</cp:lastModifiedBy>
  <dcterms:modified xsi:type="dcterms:W3CDTF">2009-05-29T16:23:34Z</dcterms:modified>
  <cp:revision>5</cp:revision>
  <dc:subject/>
  <dc:title>THE FIRST DEMOCRATICALLY ELECTED PRESIDENT IN THIS COUNTRY</dc:title>
</cp:coreProperties>
</file>